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865-502C-4AFE-B9F9-564CF4B5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2C4-1CEB-47FD-83A0-80D2368F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C5D-638A-4307-A0C7-1AACBC80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281-1B38-4798-85CB-2809DD35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C1A-C88C-4D4F-9CF0-A45306BC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199-6D9C-49FA-B307-FB7B5328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73F-CA96-4BBF-BAF4-284E8EA7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C8F-1EAE-4925-A832-4354E014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A26-1915-4C42-80E0-5297D4A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1BC-2BA7-49EF-8967-082D6EED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D3E-A210-4EB3-A014-39CF7DD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DFB-1DE5-4705-8E43-EA5C0B07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B5C2-AF29-45A3-8A7B-1A273E94D1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27220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أعظمك يا إلهي الملك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03960" y="-3240"/>
            <a:ext cx="8258040" cy="69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رَبُّ صَالِح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لجمِيع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مَرَاحِمُهُ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لى كُلِّ صَنَائِعِهِ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566360" y="0"/>
            <a:ext cx="7085880" cy="69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رَبُّ أمِين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كُلِّ أقوالِه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بَارٌ في جَمِيع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مَال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055160" y="44280"/>
            <a:ext cx="6217200" cy="73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لرَبُّ قَرِيبٌ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ِنْ جَميع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دُعَاتِه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0:41:19Z</dcterms:created>
  <dc:creator>Charbel Azar</dc:creator>
  <dc:description/>
  <dc:language>en-US</dc:language>
  <cp:lastModifiedBy>-</cp:lastModifiedBy>
  <dcterms:modified xsi:type="dcterms:W3CDTF">2003-01-14T17:18:59Z</dcterms:modified>
  <cp:revision>10</cp:revision>
  <dc:subject/>
  <dc:title>Slide 1</dc:title>
</cp:coreProperties>
</file>